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405C-C2A1-41EA-9BBB-74811598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2A3B-72B3-42FC-9DCF-30BC89E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A2C4-04C7-487B-9283-61747798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7C71-BC3B-4209-BCF3-29A56A80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6E07-636E-445E-B6B7-A1631FAC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4448-5F1B-4BB0-87EA-DACFA7DB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C2E-1FCB-4627-B0AD-4A3D54E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FC80-6540-4D80-956D-79F305C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1C3-DBE5-4B11-BCA1-90D9D64C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5EE-D2B1-4557-A6E2-29765B05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AC8A-0EAE-4695-913C-AD9E0DF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00C5-2C31-4A80-B603-D87556AE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BA51-65FB-477A-8E2E-00C0EAB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0FE1-44D4-497C-93B6-E9C4EB4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725-69BB-43B8-BD8D-598C003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9EB2-C517-4293-B3C3-DDE21F29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D075-DDCB-476F-AD5C-425CB40B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7B1E-4D4D-4A9F-A6BA-BE44DD9E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3E2A-4FC6-427A-8E86-71241143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C08F-8027-4E54-A397-BAEE26E4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17B4-2BDC-4B1C-8113-DB6479DB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C7DE-8059-45D0-8869-6F2B417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F57B-F6B3-41EB-8661-3D55F15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27C4-D187-4122-9A41-C46AFD0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8B0-1F73-4DFE-B578-1CFA39D07BD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EF6-00B5-4223-9DE6-8671BB1314E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7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Господ, Съдия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гли нашите дел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лато ли ще ни намер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и съвсем без цен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теглен в Божиите везни 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ърде лек намерен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ий Бог ще ли ни каже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Верний рабе и блажен"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а станем да работи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е още 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теглен в Божиите везни 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ърде лек намерен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отваряме сърца с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гласа на Дух Свети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и бавим се, додет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от нас в век отлет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теглен в Божиите везни 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ърде лек намерен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1-11T17:08:27Z</dcterms:modified>
  <cp:revision>52</cp:revision>
  <dc:subject/>
  <dc:title>Slide 1</dc:title>
</cp:coreProperties>
</file>